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475D-B7B5-47C2-9D18-BF82F7889A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519E-722E-4A38-AB90-072031E68084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3A14-F8A3-4D9E-AC48-892047140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5E38-1A96-4D62-9448-160DC334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DE55-429C-4C7D-93B5-F1DF8ACA6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7ED1-07EC-49DD-B7FC-BC11A4018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EAE83-D73A-467E-AE6F-B7FAF00B8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5528-4615-4A41-8990-416D6B87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2653-8255-4575-B30E-BBDEE096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9CA7-DE78-42FA-958E-A1E8C67C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4A13-4F50-4FF7-B9EC-2127B724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B948-AD9C-48C6-B3D5-2BF03324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7CB4-190C-4B9B-86EC-53B4E555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C95C-6E6B-4695-976B-E95ED2FD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DA717-85E3-4D13-BBA7-48B05F91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6ECB-7163-4261-8CB9-09EC47D5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19B02-F077-4494-A767-FC65C206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78C5-9D5A-4332-A19C-E40C0132D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4FB8-1A14-41BC-8ACE-D201D4F96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DF8B3-F702-42AE-A577-A5E1979BE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BF970-F228-4984-926D-A5642CE8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FBAB8-2E8D-4A0F-9AC3-2835036D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7242F-AC12-49EA-ADFA-948A0953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DB02F-7BCB-4311-9B50-08E1C4C5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DE3F-2CE8-42D1-886E-7B5A82A4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35A2F-8E09-40CF-A85A-1E3658FF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F7265-C4F3-4778-AC12-CC311A09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5543D-00B1-4636-BF3D-58182961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8ED45-D9CD-4ED2-8757-B35729AC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95F85-7A74-44A0-A1D9-358279C1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2B61C-672F-4D60-A90E-9434A85CF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F13D8-7B38-415C-AFA5-1F3A9A877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C6D46-6EC8-4076-83FE-19134C23B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B4C0A-BF0D-4C10-9AF6-910C006A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0B786-A58C-4D00-9BC5-B6E606FF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D3E7-E3AA-44D7-9C1E-1F3CFCDB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CCC99-0A0C-484C-9E0C-406BAAFE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2E6DD-7A47-4DEC-A275-70F3DB83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F4365-E5B8-4930-A554-225D6A70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8E6D3-6395-426E-B57C-224C528A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32E0C-069A-48E1-922C-A0B4CA86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0C33A-53CB-4594-99C7-42380EA5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D2B20-690A-4BE9-A418-2D262C97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958B7-3057-4114-BF14-F95142427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D0C1C-AB6F-46DF-93BE-07A01696C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DFEEE-B5DA-4899-AA90-1E335CDFE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5385-743C-4396-A6C1-03805C8E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8C9A2-7E7B-4380-9546-FE8DA071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5E864-05C7-4CBF-8689-305EF103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25B54-4BD1-4D2E-B6A2-CE08C428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9D96E-1575-4DB8-9CBA-42E4920D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7A43E-6881-46E2-BB81-95E6220B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68054-F35E-482D-B4B0-4259B23A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3CB48-A0C7-4EC0-9505-63146061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B516E-65E6-42C0-8849-CA17C8D8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80AF1-4DFD-4680-82C0-86366203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678A8-2C96-44CE-AF28-1BBB9BF88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0DFA-9757-45CA-AF9B-74D64ABF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0D028-AFC2-42C2-9788-6CDFD4351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8A4D1-1AE4-4456-B801-B7B01CF49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FF44E-EC55-4445-AED4-A51391C9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D8638-33D1-4D19-BF1F-BFB3FCB5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D8C92-61E4-4FF4-87D2-AB097D50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06773-DEFC-42A5-8A9E-81C5BFD1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6F9D8-3D47-4284-A568-AA0262D1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77CA7-324B-49DE-B7AA-167E0887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9F095-2799-48DB-B549-0537B7C4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69051-6DD6-4984-A685-18A771F2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F8A9-DF5E-4838-8EE0-E18A3E64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1AEE0-46E4-45BB-B16D-68FCF19A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D4FA1-73F7-4818-8FD1-ADA1F1EFF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4BE4B-50C6-454E-82E8-3EE759F40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17DF-7EED-4C45-8204-EE9E49BC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7209-09EE-4B51-9C3F-09A9C93D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E712-1E09-4B33-A95F-743725A8CA8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E36C-564E-43F8-B5F5-AC1C5648235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652F-AA85-47B6-A80B-57CB382BBE0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44FA-A768-4E9E-A5AB-7C598F7D1A3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1DC6-110B-4C72-B231-9F8CE671D48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8800"/>
              <a:chOff x="637560" y="534600"/>
              <a:chExt cx="8109000" cy="2988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88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E85A-8DC6-4669-A216-07D14E96432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474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88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14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0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782,15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0 год – 448,61 млн.руб. (местный бюджет – 178,44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70,1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73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0 год – 21,77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1,8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20,12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7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ЗАЩИТА НАСЕЛЕНИЯ И ТЕРРИТОРИИ ДАЛЬНЕРЕЧЕНСКОГО ГОРОДСКОГО ОКРУГА ОТ ЧРЕЗВЫЧАЙНЫХ СИТУАЦИЙ ПРИРОДНОГО И ТЕХНОГЕННОГО ХАРАКТЕР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 год – 11,26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1,6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82680" y="1892160"/>
            <a:ext cx="72900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по состоянию на 01.10.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.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.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630360" y="123516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 (по состоянию на 01.10.2019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5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5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990720"/>
          <a:ext cx="8567640" cy="624528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по состоянию на 01.10.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-менной городской среды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ГОД (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768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ГОДУ (3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9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0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ГОДУ (302,1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 по состоянию на 01.10.20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7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5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5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ГОД (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78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,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15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11-27T00:23:01Z</dcterms:modified>
  <cp:revision>213</cp:revision>
  <dc:subject/>
  <dc:title>Структура собственных доходов на 2016 год бюджета Дальнереченского городского округа</dc:title>
</cp:coreProperties>
</file>